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F1D-B57C-4BDE-B1F0-32C73505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007-1B31-4617-9453-5C82FD6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5A6-81E5-44FB-80E9-506D4583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2E6-C2F3-4C7D-9081-79FFC8C5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32A5-B731-4E66-BF2F-60CA443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D87D-047E-4083-B2DE-686BD71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36F6-8D7E-4230-8E66-230B162D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ED74-D94A-4F4A-B41F-DF65C9A1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52E7-20E8-4379-BA74-6B0A4A02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7499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E357-840C-40BD-A557-A3FF9244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5DB-546F-4BE7-8239-C3F7A2F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FFA-5CD4-4E03-93CB-975EFCA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DDB-8C02-4AB1-9252-4BB9DC2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4BC4-8B90-476E-A2BE-180026BA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1CE-E6FC-42C7-B053-295EE20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F41C-3708-48FB-A960-E7F9304C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4F3-ECE0-4E34-8035-A2107C3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591-BA98-400A-82D5-AC5DB89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7499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CB3F5-CAE0-416F-9027-3BF06228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2B7C4-15EA-44B5-97F6-7261C261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AD49B-C66C-4C87-8615-5A7052B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148-3DFA-4606-9C82-0BD4FED1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B3E18-C054-43C4-A820-B130F17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21E03-721E-4079-8A2A-58A82398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7499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779D0-37BE-41D0-B77C-2222B924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2DDE7-E093-44BC-A5B4-A21D24A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81B73-B174-46FB-9FFF-00373C9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1E43F-3ECF-4079-AAB3-96169102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704AC-DCED-4F40-97EA-084C1525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6456A-B14C-4E36-98FA-DE0BE910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00252-3DD0-4EAD-AC1C-B7523FB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F9E-CEED-44BC-8F77-492A52B8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74995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64D-E5AE-4CB5-8D5A-1646C56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776-35B1-40EB-9A02-FD423DBF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C84-D3DB-45FE-8018-7095D03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E18-C999-4ABA-B788-40A2173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7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4B6-FECB-47B8-A439-32CDB265295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7" descr="Background_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 rot="16200000">
            <a:off x="133200" y="6486480"/>
            <a:ext cx="301680" cy="523800"/>
          </a:xfrm>
          <a:prstGeom prst="flowChartDelay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3924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3A31-97C6-4293-BF05-3A5CF03F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이미지1"/>
          <p:cNvPicPr/>
          <p:nvPr/>
        </p:nvPicPr>
        <p:blipFill>
          <a:blip r:embed="rId2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7" descr="Background_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20160" y="6572160"/>
            <a:ext cx="500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075-1B7C-476D-8400-ACAF59099800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6"/>
          <p:cNvSpPr/>
          <p:nvPr/>
        </p:nvSpPr>
        <p:spPr>
          <a:xfrm rot="16200000">
            <a:off x="133200" y="6487920"/>
            <a:ext cx="301680" cy="520920"/>
          </a:xfrm>
          <a:prstGeom prst="flowChartDelay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571480"/>
            <a:ext cx="8820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Sookmyung Massenger </a:t>
            </a:r>
            <a:br>
              <a:rPr sz="3200"/>
            </a:b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Based On Server-Client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556000" y="5950080"/>
            <a:ext cx="40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HY견고딕"/>
              </a:rPr>
              <a:t>2009. 12. 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97040" y="472608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okmyung Women University, Seoul, Ko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ts Delivery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유리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정다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김명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나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Composition [ 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B2E-F171-4E43-9D04-A1EF96B64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다이어그램 5" descr=""/>
          <p:cNvPicPr/>
          <p:nvPr/>
        </p:nvPicPr>
        <p:blipFill>
          <a:blip r:embed="rId1"/>
          <a:stretch/>
        </p:blipFill>
        <p:spPr>
          <a:xfrm>
            <a:off x="603360" y="1494000"/>
            <a:ext cx="8102520" cy="4730760"/>
          </a:xfrm>
          <a:prstGeom prst="rect">
            <a:avLst/>
          </a:prstGeom>
          <a:ln w="0">
            <a:noFill/>
          </a:ln>
        </p:spPr>
      </p:pic>
      <p:sp>
        <p:nvSpPr>
          <p:cNvPr id="231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stem Architecture [Client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059-2CF5-40D4-8D0D-4B8C0747D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그림 18" descr="aa.jpg"/>
          <p:cNvPicPr/>
          <p:nvPr/>
        </p:nvPicPr>
        <p:blipFill>
          <a:blip r:embed="rId1"/>
          <a:stretch/>
        </p:blipFill>
        <p:spPr>
          <a:xfrm>
            <a:off x="357120" y="1357200"/>
            <a:ext cx="8569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36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lass ChatClient implements Runnable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cket Client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userName,serverName,server_msg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portNo=2345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BufferedReader msgFrom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DataOutputStream msgTo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hread iThread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ClientUI iClientUI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ArrayList iConversationRoomList,iConferenceRoomLis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5B7C-8280-4E99-BC23-17B7A2FCF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42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Client(ChatHandler Handl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=Handle.getClientSocke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Handle.getInputStream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Handle.getOutputStream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No=Handle.getPortNo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Handle.getServerNam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Handle.getUserNam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hread=new Thread(this,"client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onversationRoomList=new ArrayLis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hread.star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un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while(iThread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msgFromServer.readLin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USERLIST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8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UI=new ChatClientUI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NEWUSER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8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UI.addUser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LOGGEDOUT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9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UI.removeUser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MESSAGEFROM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sender=server_msg.substring(12,server_msg.indexOf(":")-1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_message(sender,server_msg.substring(server_msg.indexOf(":")+2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otected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ou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 void log_out(){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iClient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LOGGINGOU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중단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Thread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.cl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아웃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RoomUI get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eturnRoom=null,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Room=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return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emove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emove_room=-1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tempRoom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move_room=iCoun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remove(remove_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trimTo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oolean roomExists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 tru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return fals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oom_message(String otherClient,String messag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Exist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new ChatRoomUI(this,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add(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!messag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 args[]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Login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8E43-D46B-4C09-A69C-59CCCA374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 ( 2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48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un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while(Thread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msgFromServer.readLin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USERLIST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8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UI=new ChatClientUI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NEWUSER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8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UI.addUser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LOGGEDOUT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9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UI.removeUser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MESSAGEFROM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sender=server_msg.substring(12,server_msg.indexOf(":")-1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_message(sender,server_msg.substring(server_msg.indexOf(":")+2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otected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ou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 void log_out(){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iClient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LOGGINGOU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중단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Thread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.cl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아웃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RoomUI get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eturnRoom=null,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Room=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return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emove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emove_room=-1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tempRoom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move_room=iCoun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remove(remove_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trimTo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oolean roomExists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 tru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return fals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oom_message(String otherClient,String messag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Exist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new ChatRoomUI(this,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add(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!messag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 args[]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Login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AAD6-7048-4894-856A-4F561AB50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 ( 3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54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LOGGEDOUT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server_msg.substring(9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UI.removeUser(this,server_msg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startsWith("MESSAGEFROM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sen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=server_msg.substring(12,server_msg.indexOf(":")-1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_message(sender,server_msg.substring(server_msg.indexOf(":")+2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otected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ou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 void log_out(){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iClient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LOGGINGOU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중단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Thread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.cl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아웃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RoomUI get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eturnRoom=null,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Room=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return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emove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emove_room=-1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tempRoom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move_room=iCoun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remove(remove_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trimTo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oolean roomExists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 tru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return fals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oom_message(String otherClient,String messag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Exist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new ChatRoomUI(this,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add(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!messag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 args[]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Login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417-F2D3-4CF9-B553-630E63BDC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 ( 4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60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otected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ou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 void log_out(){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iClient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LOGGINGOU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중단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Thread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.cl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lient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아웃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RoomUI get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eturnRoom=null,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Room=tempRoo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return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emoveRoom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oomNo=iConversationRoomList.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remove_room=-1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tempRoom=nul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or(int iCount=0;iCount&lt;roomNo;iCount++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empRoom=(ChatRoomUI)iConversationRoomList.get(iCou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tempRoom.receiver.equal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move_room=iCoun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remove(remove_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trimToSiz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oolean roomExists(String otherClien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!=null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 tru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return fals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room_message(String otherClient,String messag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roomExists(otherClient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getRoom(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RoomUI room=new ChatRoomUI(this,other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ConversationRoomList.add(room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!messag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oom.output.append("\n"+otherClient+" : "+messag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 args[]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Login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5942-4D81-41EE-B373-CD6F86B80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 ( 5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66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lass ChatHandler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cket clientSocke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userName,serverN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port=2345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BufferedReader msgFrom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DataOutputStream msgTo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hatHandler() {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ClientSocket(Socket client_socket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Socket=client_socke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PortNo(int port_no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=port_no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UserName(String user_nam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user_n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ServerName(String server_nam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server_n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InputStream(BufferedReader inputStream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inputStrea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OutputStream(DataOutputStream outputStream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outputStrea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ocket getClientSocke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clientSocke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int getPortNo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Us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Serv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ufferedReader getIn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DataOutputStream getOut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Handler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159-2BA9-444D-BC93-25797F002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Handler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73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UserName(String user_nam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user_n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ServerName(String server_nam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server_n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InputStream(BufferedReader inputStream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inputStrea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setOutputStream(DataOutputStream outputStream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outputStream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ocket getClientSocke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clientSocke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int getPortNo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Us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Serv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ufferedReader getIn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DataOutputStream getOut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Handler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0A94-74F0-440A-8943-C2055BD96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Handler.java 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80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ocket getClientSocke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clientSocke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int getPortNo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Us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ring getServerName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BufferedReader getIn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DataOutputStream getOutputStream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Handler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229-B648-4306-81A7-69E27967D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Handler.java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e Composition [ .java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65E-16B1-4E24-AB37-8E092D726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87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lass ClientLogin implements ActionListener,KeyListener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cket clien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Frame frame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mage sook_icon,sook_univ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Label lUserName,lServer,lpor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TextField getUserName,getServer,portText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Button startButton,exitButto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magePanel sookPane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Panel pane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JLabel label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ring userName,serverName,server_msg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nt portNo=2345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BufferedReader msgFrom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DataOutputStream msgToServ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Handler handler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lientLogin()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=new JFrame("SM Messenger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Layout(nul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Bounds(300,50,240,58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Resizable(fals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_icon=Toolkit.getDefaultToolkit().getImage("./img/sm_mark.JPG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_univ = Toolkit.getDefaultToolkit().getImage("./img/sm_univ.JPG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IconImage(sook_ic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.setBounds(30,5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.setBounds(30,8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번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.setBounds(30,13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=new JTextField(1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setBounds(100,5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=new JTextField(1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setBounds(100,8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=new JTextField(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Bounds(100,130,5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Text("2345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ortTex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ounds(30,220,80,3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star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종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ounds(120,220,80,30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exi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 = new JPanel(nul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ounds(10,35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ack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 = new ImagePanel(sook_univ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.setBounds(0,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add(sook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WindowListener(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WindowAdapter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windowClosing(Window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Visible(tru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actionPerformed(Action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star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exi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Pressed(Key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KeyChar()=='\n'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Releas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Typ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log_in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getUserName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.trim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userName.isEmpty(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if(userName.contains(" 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여백 없이 입력해 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공백없이 입력해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getServer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Nam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No=Integer.parseInt(portText.getText(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NumberFormat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설정중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.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=new Socket(serverName,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new BufferedReader(new InputStreamReader(new DataInputStream(client.getInputStream())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new DataOutputStream(client.getOutputStream()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를 찾을 수 없습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정확한 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이름과 포트번호가 다름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NEWCLIEN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msgFromServer.readLin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USEREXISTS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미 있는 이름입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 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름 중복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WELCOME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=new ChatHandler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ClientSocket(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InputStream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OutputStream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PortNo(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ServerName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UserName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환영합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Client client = new ChatClient(handl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exitChatClien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안녕히 가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exit(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[] args)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0438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lientLogin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D55C-BFB4-4E2E-AE79-6D6278694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entLogin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94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ClientLogin()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=new JFrame("SM Messenger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Layout(nul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Bounds(300,50,240,58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Resizable(fals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_icon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oolkit.getDefaultToolkit().getImage("./img/sm_mark.JPG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_univ =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oolkit.getDefaultToolkit().getImage("./img/sm_univ.JPG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IconImage(sook_ic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.setBounds(30,5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.setBounds(30,8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번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.setBounds(30,13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=new JTextField(1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setBounds(100,5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=new JTextField(1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setBounds(100,8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=new JTextField(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Bounds(100,130,5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Text("2345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ortTex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ounds(30,220,80,3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star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종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ounds(120,220,80,30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exi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 = new JPanel(nul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ounds(10,35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ack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 = new ImagePanel(sook_univ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.setBounds(0,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add(sook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WindowListener(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WindowAdapter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windowClosing(Window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Visible(tru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actionPerformed(Action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star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exi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Pressed(Key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KeyChar()=='\n'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Releas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Typ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log_in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getUserName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.trim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userName.isEmpty(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if(userName.contains(" 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여백 없이 입력해 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공백없이 입력해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getServer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Nam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No=Integer.parseInt(portText.getText(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NumberFormat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설정중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.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=new Socket(serverName,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new BufferedReader(new InputStreamReader(new DataInputStream(client.getInputStream())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new DataOutputStream(client.getOutputStream()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를 찾을 수 없습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정확한 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이름과 포트번호가 다름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NEWCLIEN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msgFromServer.readLin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USEREXISTS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미 있는 이름입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 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름 중복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WELCOME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=new ChatHandler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ClientSocket(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InputStream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OutputStream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PortNo(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ServerName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UserName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환영합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Client client = new ChatClient(handl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exitChatClien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안녕히 가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exit(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[] args)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0438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lientLogin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28B-BDCC-4CBB-B13B-E5E56FF06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entLogin.java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300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UserName.setBounds(30,5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Server.setBounds(30,8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=new JLabel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번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port.setBounds(30,130,10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lpor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=new JTextField(1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setBounds(100,5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UserName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=new JTextField(1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setBounds(100,80,9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getServer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get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=new JTextField(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Bounds(100,130,50,25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setText("2345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Text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ortTex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로그인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ounds(30,220,80,3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tartButton.addKey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star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=new JButton(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종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ounds(120,220,80,30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Fore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setBackground(Color.DARK_GRAY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Button.addActionListener(this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exitButton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 = new JPanel(nul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ounds(10,35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setBackground(Color.whit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 = new ImagePanel(sook_univ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ookPanel.setBounds(0,0,213,166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anel.add(sook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(panel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addWindowListener(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WindowAdapter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windowClosing(Window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setVisible(tru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actionPerformed(Action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star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Source()==exitButton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xitChatClien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Pressed(KeyEvent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e.getKeyChar()=='\n'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log_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Releas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keyTyped(KeyEvent e)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log_in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=getUserName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userName.trim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userName.isEmpty(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else if(userName.contains(" 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여백 없이 입력해 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 이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공백없이 입력해주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Name=getServer.getText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Name.equals("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주소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ortNo=Integer.parseInt(portText.getText(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NumberFormat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연결 설정중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.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=new Socket(serverName,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FromServer=new BufferedReader(new InputStreamReader(new DataInputStream(client.getInputStream()))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=new DataOutputStream(client.getOutputStream());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사용자를 찾을 수 없습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정확한 서버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포트를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서버이름과 포트번호가 다름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nd_Message("NEWCLIENT "+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erver_msg=msgFromServer.readLin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USEREXISTS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미 있는 이름입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 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new DialogBox(frame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이름 중복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,"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다른 이름을 입력하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return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if(server_msg.equals("WELCOME")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=new ChatHandler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ClientSocket(client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InputStream(msgFrom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OutputStream(msgToServ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PortNo(portNo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ServerName(serv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handler.setUserName(userName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환영합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.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hatClient client = new ChatClient(handler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void exitChatClient(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"\n</a:t>
              </a:r>
              <a:r>
                <a:rPr b="0" lang="ko-KR" sz="1800" spc="-1" strike="noStrike">
                  <a:solidFill>
                    <a:srgbClr val="000000"/>
                  </a:solidFill>
                  <a:latin typeface="맑은 고딕"/>
                </a:rPr>
                <a:t>안녕히 가세요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exit(0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rivate void send_Message(String msg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msgToServer.writeBytes(msg+"\r\n"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catch(IOException e)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System.out.println(e);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public static void main(String[] args) 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ClientLogin iChat=new ClientLogi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0438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lientLogin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948-B001-4F77-B5F4-85D09057C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entLogin.java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306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lass ChatClientUI implements ActionListener,MouseListener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변수선언부분생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hatClientUI(ChatClient client,String user_list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actionPerformed(ActionEvent e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addUser(ChatClient client,String new_user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userList=userList+" "+new_user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frame.dispose(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.iClientUI=new ChatClientUI(iClient,userList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removeUser(ChatClient client,String remove_user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if(userList.equals(remove_user)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userList=""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ClientUI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587-CB5F-4DD1-8787-AC759E69D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UI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313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lass ChatRoomUI implements ActionListener,KeyListener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변수부분생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hatRoomUI(ChatClient iClientOb,String forUser){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화면구성부분생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send_message(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urrentMsg=userInput.getText(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.send_Message("MESSAGETO "+receiver+" "+name+" : "+currentMsg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userInput.setText(""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urrentMsg="\n"+name+" : "+currentMsg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output.append(currentMsg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Client - ChatRoomUI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77D-5817-4C31-AD47-AA1F78256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RoomUI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s – SM </a:t>
            </a:r>
            <a:r>
              <a:rPr b="0" lang="ko-KR" sz="3600" spc="-1" strike="noStrike">
                <a:solidFill>
                  <a:srgbClr val="ffffff"/>
                </a:solidFill>
                <a:latin typeface="Times New Roman"/>
              </a:rPr>
              <a:t>메신저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2357280" cy="359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071800" y="4286160"/>
            <a:ext cx="6929280" cy="23828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6"/>
          <p:cNvSpPr/>
          <p:nvPr/>
        </p:nvSpPr>
        <p:spPr>
          <a:xfrm>
            <a:off x="4464720" y="20718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262626"/>
                </a:solidFill>
                <a:latin typeface="Times New Roman"/>
              </a:rPr>
              <a:t>채팅서버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모서리가 둥근 직사각형 12"/>
          <p:cNvSpPr/>
          <p:nvPr/>
        </p:nvSpPr>
        <p:spPr>
          <a:xfrm>
            <a:off x="642960" y="1428840"/>
            <a:ext cx="1857240" cy="500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모서리가 둥근 직사각형 13"/>
          <p:cNvSpPr/>
          <p:nvPr/>
        </p:nvSpPr>
        <p:spPr>
          <a:xfrm>
            <a:off x="3357720" y="5715000"/>
            <a:ext cx="1285560" cy="357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s – SM </a:t>
            </a:r>
            <a:r>
              <a:rPr b="0" lang="ko-KR" sz="3600" spc="-1" strike="noStrike">
                <a:solidFill>
                  <a:srgbClr val="ffffff"/>
                </a:solidFill>
                <a:latin typeface="Times New Roman"/>
              </a:rPr>
              <a:t>메신저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1773000" cy="4286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2214720" y="857160"/>
            <a:ext cx="1773000" cy="4286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3"/>
          <a:stretch/>
        </p:blipFill>
        <p:spPr>
          <a:xfrm>
            <a:off x="2428920" y="4071960"/>
            <a:ext cx="6429240" cy="23637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5175360" y="19969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262626"/>
                </a:solidFill>
                <a:latin typeface="Times New Roman"/>
              </a:rPr>
              <a:t>클라이언트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모서리가 둥근 직사각형 11"/>
          <p:cNvSpPr/>
          <p:nvPr/>
        </p:nvSpPr>
        <p:spPr>
          <a:xfrm>
            <a:off x="500040" y="1285920"/>
            <a:ext cx="128592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모서리가 둥근 직사각형 12"/>
          <p:cNvSpPr/>
          <p:nvPr/>
        </p:nvSpPr>
        <p:spPr>
          <a:xfrm>
            <a:off x="2428920" y="1285920"/>
            <a:ext cx="128592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s – SM </a:t>
            </a:r>
            <a:r>
              <a:rPr b="0" lang="ko-KR" sz="3600" spc="-1" strike="noStrike">
                <a:solidFill>
                  <a:srgbClr val="ffffff"/>
                </a:solidFill>
                <a:latin typeface="Times New Roman"/>
              </a:rPr>
              <a:t>메신저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2071800" cy="5489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6715080" y="1000080"/>
            <a:ext cx="2071800" cy="5489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2"/>
          <p:cNvSpPr/>
          <p:nvPr/>
        </p:nvSpPr>
        <p:spPr>
          <a:xfrm>
            <a:off x="1285920" y="23572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imes New Roman"/>
              </a:rPr>
              <a:t>user1</a:t>
            </a:r>
            <a:r>
              <a:rPr b="1" lang="ko-KR" sz="2400" spc="-1" strike="noStrike">
                <a:solidFill>
                  <a:srgbClr val="262626"/>
                </a:solidFill>
                <a:latin typeface="Times New Roman"/>
              </a:rPr>
              <a:t>에게 보이는</a:t>
            </a: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262626"/>
                </a:solidFill>
                <a:latin typeface="Times New Roman"/>
              </a:rPr>
              <a:t>메신저 화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3500280" y="428616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Times New Roman"/>
              </a:rPr>
              <a:t>snow</a:t>
            </a:r>
            <a:r>
              <a:rPr b="1" lang="ko-KR" sz="2400" spc="-1" strike="noStrike">
                <a:solidFill>
                  <a:srgbClr val="262626"/>
                </a:solidFill>
                <a:latin typeface="Times New Roman"/>
              </a:rPr>
              <a:t>에게 보이는</a:t>
            </a: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262626"/>
                </a:solidFill>
                <a:latin typeface="Times New Roman"/>
              </a:rPr>
              <a:t>메신저 화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모서리가 둥근 직사각형 14"/>
          <p:cNvSpPr/>
          <p:nvPr/>
        </p:nvSpPr>
        <p:spPr>
          <a:xfrm>
            <a:off x="428760" y="1714680"/>
            <a:ext cx="1071360" cy="571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모서리가 둥근 직사각형 15"/>
          <p:cNvSpPr/>
          <p:nvPr/>
        </p:nvSpPr>
        <p:spPr>
          <a:xfrm>
            <a:off x="6858000" y="1714680"/>
            <a:ext cx="1071720" cy="571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s – SM </a:t>
            </a:r>
            <a:r>
              <a:rPr b="0" lang="ko-KR" sz="3600" spc="-1" strike="noStrike">
                <a:solidFill>
                  <a:srgbClr val="ffffff"/>
                </a:solidFill>
                <a:latin typeface="Times New Roman"/>
              </a:rPr>
              <a:t>메신저 실행화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000240" y="1071720"/>
            <a:ext cx="3235320" cy="46908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2583360" y="5929200"/>
            <a:ext cx="41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Times New Roman"/>
              </a:rPr>
              <a:t>user1</a:t>
            </a: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1" lang="en-US" sz="3600" spc="-1" strike="noStrike">
                <a:solidFill>
                  <a:srgbClr val="323232"/>
                </a:solidFill>
                <a:latin typeface="Times New Roman"/>
              </a:rPr>
              <a:t>snow</a:t>
            </a: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의 대화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043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5ACA-CF47-4912-B72D-CB84A0B33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3148920" y="2786040"/>
            <a:ext cx="258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d0d0d"/>
                </a:solidFill>
                <a:latin typeface="Comic Sans MS"/>
              </a:rPr>
              <a:t>Q&amp;A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E5F-B01C-4967-A7E6-BE77D1C96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C:\Documents and Settings\정다운\Local Settings\Temporary Internet Files\Content.IE5\KJ59F32P\MCj04413380000[1].png"/>
          <p:cNvPicPr/>
          <p:nvPr/>
        </p:nvPicPr>
        <p:blipFill>
          <a:blip r:embed="rId1"/>
          <a:stretch/>
        </p:blipFill>
        <p:spPr>
          <a:xfrm>
            <a:off x="785880" y="23814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정다운\Local Settings\Temporary Internet Files\Content.IE5\KJ59F32P\MCj04413380000[1].png"/>
          <p:cNvPicPr/>
          <p:nvPr/>
        </p:nvPicPr>
        <p:blipFill>
          <a:blip r:embed="rId2"/>
          <a:stretch/>
        </p:blipFill>
        <p:spPr>
          <a:xfrm>
            <a:off x="6929280" y="2452680"/>
            <a:ext cx="1486080" cy="14288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8"/>
          <p:cNvSpPr/>
          <p:nvPr/>
        </p:nvSpPr>
        <p:spPr>
          <a:xfrm>
            <a:off x="214200" y="4622760"/>
            <a:ext cx="8929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서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클라이언트 구조를 이해하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를 활용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숙명여대 학생들에게 무료 배포할 수 있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메신저를 개발해보고자 한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1099080" y="392904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6936120" y="395280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C:\Documents and Settings\정다운\Local Settings\Temporary Internet Files\Content.IE5\A0VPXVUE\MCj04413350000[1].png"/>
          <p:cNvPicPr/>
          <p:nvPr/>
        </p:nvPicPr>
        <p:blipFill>
          <a:blip r:embed="rId3"/>
          <a:stretch/>
        </p:blipFill>
        <p:spPr>
          <a:xfrm>
            <a:off x="3714840" y="11430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6"/>
          <p:cNvSpPr/>
          <p:nvPr/>
        </p:nvSpPr>
        <p:spPr>
          <a:xfrm>
            <a:off x="4150800" y="27147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직선 화살표 연결선 10"/>
          <p:cNvCxnSpPr/>
          <p:nvPr/>
        </p:nvCxnSpPr>
        <p:spPr>
          <a:xfrm flipH="1">
            <a:off x="2142360" y="2023920"/>
            <a:ext cx="1429560" cy="85824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  <p:cxnSp>
        <p:nvCxnSpPr>
          <p:cNvPr id="185" name="직선 화살표 연결선 14"/>
          <p:cNvCxnSpPr/>
          <p:nvPr/>
        </p:nvCxnSpPr>
        <p:spPr>
          <a:xfrm>
            <a:off x="5500800" y="2023920"/>
            <a:ext cx="1643760" cy="92952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  <p:cxnSp>
        <p:nvCxnSpPr>
          <p:cNvPr id="186" name="직선 화살표 연결선 17"/>
          <p:cNvCxnSpPr/>
          <p:nvPr/>
        </p:nvCxnSpPr>
        <p:spPr>
          <a:xfrm>
            <a:off x="2500200" y="3522240"/>
            <a:ext cx="4215600" cy="252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  <p:cxnSp>
        <p:nvCxnSpPr>
          <p:cNvPr id="187" name="직선 화살표 연결선 20"/>
          <p:cNvCxnSpPr/>
          <p:nvPr/>
        </p:nvCxnSpPr>
        <p:spPr>
          <a:xfrm flipH="1" flipV="1">
            <a:off x="2499480" y="3738240"/>
            <a:ext cx="4072680" cy="216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043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7FE9-A159-40ED-B07E-1C43E7C54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1214280" y="2714760"/>
            <a:ext cx="726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d0d0d"/>
                </a:solidFill>
                <a:latin typeface="Comic Sans MS"/>
              </a:rPr>
              <a:t>Thank You ^^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내용 개체 틀 5" descr=""/>
          <p:cNvPicPr/>
          <p:nvPr/>
        </p:nvPicPr>
        <p:blipFill>
          <a:blip r:embed="rId1"/>
          <a:stretch/>
        </p:blipFill>
        <p:spPr>
          <a:xfrm>
            <a:off x="195120" y="1352520"/>
            <a:ext cx="8479080" cy="4919760"/>
          </a:xfrm>
          <a:prstGeom prst="rect">
            <a:avLst/>
          </a:prstGeom>
          <a:ln w="0">
            <a:noFill/>
          </a:ln>
        </p:spPr>
      </p:pic>
      <p:sp>
        <p:nvSpPr>
          <p:cNvPr id="190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9AF-D32C-4389-B4BB-BDE13E0BD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458640" y="2500200"/>
            <a:ext cx="3756240" cy="364356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8" descr="aa.jpg"/>
          <p:cNvPicPr/>
          <p:nvPr/>
        </p:nvPicPr>
        <p:blipFill>
          <a:blip r:embed="rId3"/>
          <a:stretch/>
        </p:blipFill>
        <p:spPr>
          <a:xfrm>
            <a:off x="4857840" y="2500200"/>
            <a:ext cx="3714840" cy="3643560"/>
          </a:xfrm>
          <a:prstGeom prst="rect">
            <a:avLst/>
          </a:prstGeom>
          <a:ln w="0">
            <a:noFill/>
          </a:ln>
        </p:spPr>
      </p:pic>
      <p:cxnSp>
        <p:nvCxnSpPr>
          <p:cNvPr id="193" name="직선 화살표 연결선 10"/>
          <p:cNvCxnSpPr/>
          <p:nvPr/>
        </p:nvCxnSpPr>
        <p:spPr>
          <a:xfrm>
            <a:off x="3534840" y="1856880"/>
            <a:ext cx="1645560" cy="252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  <p:cxnSp>
        <p:nvCxnSpPr>
          <p:cNvPr id="194" name="직선 화살표 연결선 13"/>
          <p:cNvCxnSpPr/>
          <p:nvPr/>
        </p:nvCxnSpPr>
        <p:spPr>
          <a:xfrm flipH="1">
            <a:off x="3534480" y="2071800"/>
            <a:ext cx="1645560" cy="2160"/>
          </a:xfrm>
          <a:prstGeom prst="straightConnector1">
            <a:avLst/>
          </a:prstGeom>
          <a:ln w="57240">
            <a:solidFill>
              <a:srgbClr val="14425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Composition [ 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CF6-B3DC-496C-9152-57E267A94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다이어그램 5" descr=""/>
          <p:cNvPicPr/>
          <p:nvPr/>
        </p:nvPicPr>
        <p:blipFill>
          <a:blip r:embed="rId1"/>
          <a:stretch/>
        </p:blipFill>
        <p:spPr>
          <a:xfrm>
            <a:off x="603360" y="1494000"/>
            <a:ext cx="8102520" cy="4730760"/>
          </a:xfrm>
          <a:prstGeom prst="rect">
            <a:avLst/>
          </a:prstGeom>
          <a:ln w="0">
            <a:noFill/>
          </a:ln>
        </p:spPr>
      </p:pic>
      <p:sp>
        <p:nvSpPr>
          <p:cNvPr id="198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stem Architecture [Server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97C-27E0-4199-A383-2BED004C5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195640" y="1071720"/>
            <a:ext cx="50194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03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public class ChatClient {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Socket clientSock;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클라이언트 소켓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String clientName;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클라이언트 이름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디폴트 생성자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public ChatClient(){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생성자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public ChatClient(Socket clientSocket,String clientName){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clientSock = clientSocket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this.clientName = clientName;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소켓 설정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public void setClientSocket(Socket clientSocket){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this.clientSock=clientSocket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클라이언트 이름 설정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public void setClientName(String clientName){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this.clientName=clientName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클라이언트 소켓 리턴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Server - ChatClient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8642-8104-433A-80FC-86899BCAA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Client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10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lass ChatServer implements Runnable,ActionListener,KeyListener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소켓 서버 서버 시작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rotected void start_socketSer(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ocketSer=new ServerSocket(portNum);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서버 소켓 생성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isServerRunning=true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ystem.out.println("\nServer running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포트번호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: "+portNum);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ortText.setEnabled(false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List=new ArrayList(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스레드 생성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시작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mainThread=new Thread(this,"Chatting Server"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mainThread.start();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실행 메소드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run()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while(mainThread!=null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ocket newClient=socketSer.accept();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새로운 클라이언트 받아들임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hatHandler newCHandle=new ChatHandler(this,newClient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Thread.sleep(1000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Server - ChatServer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CE37-8F96-4B8B-91FA-BDEB2E07E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모서리가 둥근 직사각형 7"/>
          <p:cNvGrpSpPr/>
          <p:nvPr/>
        </p:nvGrpSpPr>
        <p:grpSpPr>
          <a:xfrm>
            <a:off x="420840" y="1103400"/>
            <a:ext cx="4705200" cy="755640"/>
            <a:chOff x="420840" y="1103400"/>
            <a:chExt cx="4705200" cy="755640"/>
          </a:xfrm>
        </p:grpSpPr>
        <p:pic>
          <p:nvPicPr>
            <p:cNvPr id="216" name="모서리가 둥근 직사각형 7" descr=""/>
            <p:cNvPicPr/>
            <p:nvPr/>
          </p:nvPicPr>
          <p:blipFill>
            <a:blip r:embed="rId2"/>
            <a:stretch/>
          </p:blipFill>
          <p:spPr>
            <a:xfrm>
              <a:off x="420840" y="1103400"/>
              <a:ext cx="4705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03360" y="1174680"/>
              <a:ext cx="4437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ChatServer.jav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직사각형 6"/>
          <p:cNvSpPr/>
          <p:nvPr/>
        </p:nvSpPr>
        <p:spPr>
          <a:xfrm>
            <a:off x="2357280" y="2928960"/>
            <a:ext cx="3286440" cy="214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직사각형 8"/>
          <p:cNvSpPr/>
          <p:nvPr/>
        </p:nvSpPr>
        <p:spPr>
          <a:xfrm>
            <a:off x="2286000" y="4214880"/>
            <a:ext cx="4071960" cy="5000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직사각형 10"/>
          <p:cNvSpPr/>
          <p:nvPr/>
        </p:nvSpPr>
        <p:spPr>
          <a:xfrm>
            <a:off x="2286000" y="5715000"/>
            <a:ext cx="3071880" cy="214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모서리가 둥근 직사각형 9"/>
          <p:cNvGrpSpPr/>
          <p:nvPr/>
        </p:nvGrpSpPr>
        <p:grpSpPr>
          <a:xfrm>
            <a:off x="208080" y="1352520"/>
            <a:ext cx="8582040" cy="5151600"/>
            <a:chOff x="208080" y="1352520"/>
            <a:chExt cx="8582040" cy="5151600"/>
          </a:xfrm>
        </p:grpSpPr>
        <p:pic>
          <p:nvPicPr>
            <p:cNvPr id="222" name="모서리가 둥근 직사각형 9" descr=""/>
            <p:cNvPicPr/>
            <p:nvPr/>
          </p:nvPicPr>
          <p:blipFill>
            <a:blip r:embed="rId1"/>
            <a:stretch/>
          </p:blipFill>
          <p:spPr>
            <a:xfrm>
              <a:off x="208080" y="1352520"/>
              <a:ext cx="85820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65120" y="1608120"/>
              <a:ext cx="80708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lass ChatHandler implements Runnable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생성자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ChatHandler(ChatServer server, Socket clientSock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실행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public void run(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while(listener != null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try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lientMsg = bufReader.readLine(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if(clientMsg.startsWith("NEWCLIENT")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erver.addClient(socket, clientMsg.substring(10));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else if(clientMsg.startsWith("LOGGINGOUT")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erver.removeClient(clientMsg.substring(11)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else if(clientMsg.startsWith("MESSAGETO"))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String recepient, message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recepient = clientMsg.substring(10,clientMsg.indexOf(" ",10)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499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rce [Server - ChatHandler.java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슬라이드 번호 개체 틀 5"/>
          <p:cNvSpPr/>
          <p:nvPr/>
        </p:nvSpPr>
        <p:spPr>
          <a:xfrm>
            <a:off x="39600" y="6597720"/>
            <a:ext cx="500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84DB-4545-4E66-B690-FA2313217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모서리가 둥근 직사각형 6"/>
          <p:cNvSpPr/>
          <p:nvPr/>
        </p:nvSpPr>
        <p:spPr>
          <a:xfrm>
            <a:off x="1571760" y="1571760"/>
            <a:ext cx="242892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모서리가 둥근 직사각형 7"/>
          <p:cNvSpPr/>
          <p:nvPr/>
        </p:nvSpPr>
        <p:spPr>
          <a:xfrm>
            <a:off x="571680" y="1143000"/>
            <a:ext cx="4500360" cy="642960"/>
          </a:xfrm>
          <a:prstGeom prst="roundRect">
            <a:avLst>
              <a:gd name="adj" fmla="val 16667"/>
            </a:avLst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tHandler.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33:19Z</dcterms:created>
  <dc:creator>Hwan-Joo Kwak</dc:creator>
  <dc:description/>
  <dc:language>en-US</dc:language>
  <cp:lastModifiedBy>pc_339</cp:lastModifiedBy>
  <dcterms:modified xsi:type="dcterms:W3CDTF">2009-12-08T05:46:27Z</dcterms:modified>
  <cp:revision>184</cp:revision>
  <dc:subject/>
  <dc:title>Module-based Efficient Self-collision Detection Method for Humanoid Robots</dc:title>
</cp:coreProperties>
</file>