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3A3-340A-4A73-8E9D-F4CE1984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E50-4453-454B-AF63-5EEA836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894-7C1B-412A-9DBE-A52E5891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A23-C0F4-41D4-B4C9-38CFDD7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D83-A576-4B67-B59A-FBEBE30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480-DE96-4373-BD3D-02C85F3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873-EDAB-44E3-A576-D7175C2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FD5-4067-41E2-B73A-E81BC2D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F22-AA0C-4C81-BEE7-53DC6018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9D0-2AC7-4054-AAF9-B6E6DF9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345-7336-45D0-AA1F-EDA4C14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CFF-FFC4-4C34-A784-ECBA42B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369-F043-4442-87D1-C00EF95BA09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4533840" cy="307152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6"/>
          <p:cNvSpPr/>
          <p:nvPr/>
        </p:nvSpPr>
        <p:spPr>
          <a:xfrm>
            <a:off x="307800" y="2286000"/>
            <a:ext cx="4643640" cy="428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488560" y="2714760"/>
            <a:ext cx="35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pSub1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(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열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px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px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5497560" y="3214800"/>
            <a:ext cx="27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Body 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px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px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0"/>
          <p:cNvSpPr/>
          <p:nvPr/>
        </p:nvSpPr>
        <p:spPr>
          <a:xfrm>
            <a:off x="317520" y="2717640"/>
            <a:ext cx="4643280" cy="1854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7"/>
          <p:cNvSpPr/>
          <p:nvPr/>
        </p:nvSpPr>
        <p:spPr>
          <a:xfrm>
            <a:off x="214200" y="2214720"/>
            <a:ext cx="4857840" cy="2500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488560" y="2214720"/>
            <a:ext cx="35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pSub2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(4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열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px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로폭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px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직사각형 12"/>
          <p:cNvSpPr/>
          <p:nvPr/>
        </p:nvSpPr>
        <p:spPr>
          <a:xfrm>
            <a:off x="71280" y="1928880"/>
            <a:ext cx="5143680" cy="2928960"/>
          </a:xfrm>
          <a:prstGeom prst="rect">
            <a:avLst/>
          </a:prstGeom>
          <a:noFill/>
          <a:ln w="255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TextBox 8" descr=""/>
          <p:cNvPicPr/>
          <p:nvPr/>
        </p:nvPicPr>
        <p:blipFill>
          <a:blip r:embed="rId2"/>
          <a:stretch/>
        </p:blipFill>
        <p:spPr>
          <a:xfrm>
            <a:off x="5297400" y="1835280"/>
            <a:ext cx="3164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39:35Z</dcterms:created>
  <dc:creator>Administrator</dc:creator>
  <dc:description/>
  <dc:language>en-US</dc:language>
  <cp:lastModifiedBy>Administrator</cp:lastModifiedBy>
  <dcterms:modified xsi:type="dcterms:W3CDTF">2009-12-15T04:04:12Z</dcterms:modified>
  <cp:revision>7</cp:revision>
  <dc:subject/>
  <dc:title>슬라이드 1</dc:title>
</cp:coreProperties>
</file>